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B2C-69BB-4DA5-99F7-EB01EB89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FFB-DF8D-4E4B-9BBE-2578EF3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23F-1431-4CAC-BFE7-6E78107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3CC-2DAA-404E-A72A-6CCC1435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7823-5187-4D08-932C-C880A9F0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86F6-97A0-40F2-A11E-8ED3C74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73E8-F62C-4D8E-8EA4-81CE7E10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4602-FFD1-4E2D-A476-DD950486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D9B-6B51-461F-9155-5C54E5B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4186-43E6-4292-8602-AD5E0D1B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FF4-AEB5-4338-BD52-4EC2FCC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E11-846D-4995-936C-E0013FB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42D-23DE-4B92-B1B2-7ED96EE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D1F-8A70-48C0-A270-2B0A4B6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C29C-4BE5-4774-8116-DEA7B8D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5D98-2244-4CF5-B855-0F560B96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397-D56B-415F-8B20-E0B4AA80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773-10C8-4066-AFEC-DFA85E1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6CE-0358-4972-BCC6-0CB26B0C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8FB-151A-45DF-8292-FA1BAF1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DA5-A353-409E-91FA-8F4C174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80B-AAF4-49A5-B5C8-87E4452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7EE-06D9-4506-96FB-E27E251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1E7-1B28-4855-A716-0D1D189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D7F-1AA1-4BFB-BFB9-42D257C8DF6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BD5-ECAF-40B1-BA8A-01FCE746DAD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3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 ученик 6 класса Петр Ива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ичественные :                                   Порядковы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, пять.                                                трети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ят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071880" y="2571840"/>
            <a:ext cx="33336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876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му что одни обозначают числа, а другие – поряд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14240" y="3071880"/>
            <a:ext cx="2665440" cy="3571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5214960" y="3357720"/>
            <a:ext cx="305748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3748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яются по падежам и родам, а простое числительное ОДИН еще и по числам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ква Ь пишется в числительных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це: от 5 до 20 и в 30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редине: от 50 до 80 и от 500 до 900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ишется в середине: 15,16,17,18,19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ые : два, сорок сем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бные : три четвер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ельные : двое, семер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в тему «Имя числительное как часть речи», мы узнали, что числительные бывают простыми, сложными и составными. Научились правильно писать их, узнали много нового о количественных числите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d</cp:lastModifiedBy>
  <dcterms:modified xsi:type="dcterms:W3CDTF">2010-04-16T14:18:09Z</dcterms:modified>
  <cp:revision>9</cp:revision>
  <dc:subject/>
  <dc:title>Имя числительное как Часть речи. </dc:title>
</cp:coreProperties>
</file>